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955-1566-4A6D-9E05-664A4E97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A95-FAB2-42C9-8983-99DB0FC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FFA-92AC-4EEE-947F-B37F2891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63B-B409-4F36-AD0A-4887472B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D6B-8F3F-4B4E-89D5-DC083792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F147-3F17-4627-BFB3-63E70985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214C-4BCE-4ABA-B3EE-1AC0A29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8C02-A35F-4C3E-AD8C-61DEC3B0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DA43-40FC-4593-A793-91B1E106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F949-796F-4119-A65C-AD877DAB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85E7-1266-4F93-8A8F-6F4405D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0C5-88B0-40C5-8671-D21C54A7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5630-6F12-45F9-B694-6B3298C1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8176-0F49-4F5D-BB10-8762228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8D0D-49D6-467C-B15B-4CE3A00A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2DA4-87F5-4D52-A078-995087E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7549-3C6E-47B7-907C-4841ECFF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E22-B74B-4AD8-8CC6-995F0CB3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631-EBDD-4B96-9749-BF27EFC6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45E-4916-44DF-8BCE-C68D5CC2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27A-7A80-49B0-911A-1E5C7716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017-9A83-4CA8-B017-9C5F538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320-DB0D-4A03-A821-EE860EFA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1A6-7187-452D-87E7-A5EB430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6620-FB2A-4E3F-9BA2-580BE3478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B03B-77CA-46FE-AD62-BBB3549EA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48600" y="144792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ebr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 P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447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14800" y="14479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62720" y="14479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1360" y="1447920"/>
            <a:ext cx="12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&amp;.1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39880" y="251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360" y="32418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360" y="4003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360" y="47656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360" y="55278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40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28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080" y="251460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40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2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16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080" y="3276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400" y="3962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320" y="39625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0400" y="3962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080" y="403848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400" y="4724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280" y="4800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160" y="4800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080" y="4800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400" y="5562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280" y="5562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160" y="5562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080" y="5562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rcRect l="11775" t="45423" r="61372" b="18702"/>
          <a:stretch/>
        </p:blipFill>
        <p:spPr>
          <a:xfrm>
            <a:off x="2819520" y="2286000"/>
            <a:ext cx="3273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rcRect l="11778" t="45423" r="36351" b="13927"/>
          <a:stretch/>
        </p:blipFill>
        <p:spPr>
          <a:xfrm>
            <a:off x="1281240" y="1828800"/>
            <a:ext cx="6324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93600" y="3168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ermine whether the follo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spondence is a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{(-6,1) (-1,3) (2,3) (7,12) (2,10)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963600" y="32004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286360" y="28195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e Domain and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(3,1),(5,3),(7,7),(3,5)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745000" y="2819520"/>
            <a:ext cx="341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a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main= {3,5,7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nge= {1,3,5,7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08720" y="3219480"/>
            <a:ext cx="636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(x-7)/(x+5), find the following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7),f(x+1),f(-5) and f(-1/2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974320" y="2743200"/>
            <a:ext cx="307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(x-6)/(x+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 Doesn’t ex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-5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82080" y="3219480"/>
            <a:ext cx="55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omain of the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    1    .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6x+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048120" y="2819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= 5 or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26708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3581280" y="2819520"/>
            <a:ext cx="1526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rcRect l="12257" t="33152" r="62258" b="30294"/>
          <a:stretch/>
        </p:blipFill>
        <p:spPr>
          <a:xfrm>
            <a:off x="2590920" y="1676520"/>
            <a:ext cx="3106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990720" y="3168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Domain of the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=4-5x+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660120" y="281952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real'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2520" y="3168720"/>
            <a:ext cx="463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from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n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2,-11) and (5,-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812040" y="33526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3240" y="3168720"/>
            <a:ext cx="58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and Y-intercep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the given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-7/11x - 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1800" y="3168720"/>
            <a:ext cx="36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-7/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-intercept= (0,-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79560" y="331776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unction T given by T(d)= 10d + 20 can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determine the temperature T, in degre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sius, at a depth d, in kilometers, inside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(5),(20), and (1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2545920" y="3124080"/>
            <a:ext cx="43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, 2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, 10,0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3600" y="3168720"/>
            <a:ext cx="633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of the line wit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in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1/2 ,3) and (1/2 ,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3354840" y="29718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Defi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3"/>
          <a:srcRect l="12257" t="33152" r="37943" b="26199"/>
          <a:stretch/>
        </p:blipFill>
        <p:spPr>
          <a:xfrm>
            <a:off x="2590920" y="1676520"/>
            <a:ext cx="607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89280" y="3168720"/>
            <a:ext cx="66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slope and the y-intercept of the line with the given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2x-y=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763000" y="3048120"/>
            <a:ext cx="35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 -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-intercept= (0,-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5040" y="3168720"/>
            <a:ext cx="636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 the slope intercept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a line with the follo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 -2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-intercept= (0,-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3137040" y="289548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-2/3x -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4680" y="3168720"/>
            <a:ext cx="6307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ermine whether the lines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llel, perpendicular, or n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x-2y=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x-4y= -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3584160" y="281952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758240" y="1905120"/>
            <a:ext cx="6369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 the slope intercept eq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a line with the follo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ses through (-2,-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362760" y="26668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3x +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3240" y="3168720"/>
            <a:ext cx="571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a linear function h giv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(-2)= -9 and H(4)= 3. Th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H(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3125520" y="29718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(x)= 2x -5 ; -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rcRect l="12502" t="35460" r="62179" b="27828"/>
          <a:stretch/>
        </p:blipFill>
        <p:spPr>
          <a:xfrm>
            <a:off x="3067200" y="2133720"/>
            <a:ext cx="30873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81080" y="1981080"/>
            <a:ext cx="443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n the point (1,-1) and the li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x + 3y =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an equation of the line containing the given point and parallel to the given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2897280" y="312408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-2/3x – 1/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0360" y="3168720"/>
            <a:ext cx="38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x – 4 = 5x + 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4040280" y="28954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528920" y="2286000"/>
            <a:ext cx="693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and write interval notation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ution s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x – 5 &lt; x + 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3202920" y="29718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-infinity,1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2880" y="3168720"/>
            <a:ext cx="587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zero(s) of the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8 – 2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4268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682280" y="1676520"/>
            <a:ext cx="62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enter of the circle describ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equation (x-1)2 + y2 = 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hich of the follow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(-1,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(1,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)(0,-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)(-1,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4268880" y="2590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3"/>
          <a:srcRect l="12499" t="35460" r="37662" b="23895"/>
          <a:stretch/>
        </p:blipFill>
        <p:spPr>
          <a:xfrm>
            <a:off x="1676520" y="1828800"/>
            <a:ext cx="6076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2667960" y="2438280"/>
            <a:ext cx="323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– 13 = -13 + 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3660120" y="26668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real'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09960" y="2438280"/>
            <a:ext cx="914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quation y = 6x + 121 estimates the numb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faculty members At two-year colleges, 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usands, where x is the number of years af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70. For what years will there be more th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25 thousand Faculty memb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27920" y="2743200"/>
            <a:ext cx="24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 &gt; 2004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rcRect l="12097" t="45005" r="66776" b="18702"/>
          <a:stretch/>
        </p:blipFill>
        <p:spPr>
          <a:xfrm>
            <a:off x="3276720" y="2057400"/>
            <a:ext cx="25765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rcRect l="12097" t="45005" r="39779" b="13532"/>
          <a:stretch/>
        </p:blipFill>
        <p:spPr>
          <a:xfrm>
            <a:off x="1676520" y="205740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rcRect l="12339" t="48258" r="66050" b="15552"/>
          <a:stretch/>
        </p:blipFill>
        <p:spPr>
          <a:xfrm>
            <a:off x="3276720" y="2057400"/>
            <a:ext cx="26352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rcRect l="12339" t="48258" r="39537" b="11488"/>
          <a:stretch/>
        </p:blipFill>
        <p:spPr>
          <a:xfrm>
            <a:off x="1523880" y="1828800"/>
            <a:ext cx="58676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ngela Beason</cp:lastModifiedBy>
  <dcterms:modified xsi:type="dcterms:W3CDTF">2014-01-16T15:49:14Z</dcterms:modified>
  <cp:revision>30</cp:revision>
  <dc:subject/>
  <dc:title>Jeopardy</dc:title>
</cp:coreProperties>
</file>